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59A-CB4C-418D-B06C-EBA3A5BA8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04E-EA47-4FFB-BFB6-A0C9C6A2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A33-78B9-4A7C-BE7F-864BD96E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D46-7924-4682-9813-9B6DB399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783-F386-4802-A3A8-18AE2D7A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A2A-BE68-4DC1-A415-3AA7E7F4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791-925E-4436-98A5-D6BCD0E0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56C-78BC-427E-B5C7-2432152F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10D9-E7E7-4427-B588-961BC9DE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484-9450-481A-8C2C-BCDD6CBB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34BB-44D1-42CB-9816-C2C7CDC7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8259-B3A1-48BC-9F02-99673F28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A636-8526-4D4F-A45B-09887CD44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353040" cy="5029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0"/>
            <a:ext cx="7315200" cy="19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Unit 6 : Hendak beli apa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93364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5052960"/>
            <a:ext cx="426744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657600" y="1676520"/>
            <a:ext cx="205740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imSu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Berdasarkan ( based on) the menu di slaid sebelum ini, tukarkan Menu ini ke Bahasa Melay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2. Menu harus berformatkan Word/Ado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457200"/>
            <a:ext cx="6705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UGASA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5638680" cy="320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304920" y="3962520"/>
            <a:ext cx="4114800" cy="1066680"/>
          </a:xfrm>
          <a:prstGeom prst="wedgeRectCallout">
            <a:avLst>
              <a:gd name="adj1" fmla="val 0"/>
              <a:gd name="adj2" fmla="val 100148"/>
            </a:avLst>
          </a:prstGeom>
          <a:solidFill>
            <a:srgbClr val="66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H Su!  Ada kedai baru di kantin! Nasi ayam makanan kegemaran say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5257800"/>
            <a:ext cx="1447920" cy="1380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010280" y="2286000"/>
            <a:ext cx="175284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105520" y="5105520"/>
            <a:ext cx="3429000" cy="1600200"/>
          </a:xfrm>
          <a:prstGeom prst="wedgeRectCallout">
            <a:avLst>
              <a:gd name="adj1" fmla="val 26527"/>
              <a:gd name="adj2" fmla="val -109125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 ka? Awak mahu makan nasi ayam apa di situ? Saya akan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belanja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wak kerana hari ini hari jadi awa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590920" cy="3200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0" r="0" b="10057"/>
          <a:stretch/>
        </p:blipFill>
        <p:spPr>
          <a:xfrm>
            <a:off x="3124080" y="1828800"/>
            <a:ext cx="2514600" cy="2516040"/>
          </a:xfrm>
          <a:prstGeom prst="rect">
            <a:avLst/>
          </a:prstGeom>
          <a:ln w="57240">
            <a:solidFill>
              <a:srgbClr val="333333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rcRect l="0" t="0" r="0" b="16902"/>
          <a:stretch/>
        </p:blipFill>
        <p:spPr>
          <a:xfrm>
            <a:off x="6019920" y="457200"/>
            <a:ext cx="2671560" cy="2857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5105520"/>
            <a:ext cx="1447560" cy="1380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62320" y="4648320"/>
            <a:ext cx="4800600" cy="1981080"/>
          </a:xfrm>
          <a:prstGeom prst="wedgeRectCallout">
            <a:avLst>
              <a:gd name="adj1" fmla="val -64583"/>
              <a:gd name="adj2" fmla="val 14263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ima kasih Su! Buat susah-susah sahaja. Saya mahu makan Nasi Ayam Char Siew. Saya mahu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amba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 pinggan char siew boleh? Berapa agaknya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harganya?</a:t>
            </a:r>
            <a:r>
              <a:rPr b="1" lang="en-US" sz="2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2320" y="5334120"/>
            <a:ext cx="5790960" cy="1295280"/>
          </a:xfrm>
          <a:prstGeom prst="wedgeRectCallout">
            <a:avLst>
              <a:gd name="adj1" fmla="val -69736"/>
              <a:gd name="adj2" fmla="val 6370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, mari kita lihat menu ini. Harganya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terter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 situ.  Wah agak murah dan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berba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memes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t nasi ayam. Boleh dapat sayur dan telur bersama set 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04920"/>
            <a:ext cx="8381880" cy="4724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 rot="1481400">
            <a:off x="3846600" y="7920"/>
            <a:ext cx="1523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EN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066680"/>
            <a:ext cx="8077320" cy="63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Satu set nasi ayam                        -   $5.00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termasuk sayur,sup dan telu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Nasi ayam roasted/steam                -   $3.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Nasi ayam char siew                      -   $3.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Pedal/ telur                                -   $0.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urlz MT"/>
              </a:rPr>
              <a:t>Tambahan Satu pinggan ayam          -   $1. 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urlz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38088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SA KATA BAHARU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ANG DIPELAJARI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04920" y="1523880"/>
          <a:ext cx="8610120" cy="5105520"/>
        </p:xfrm>
        <a:graphic>
          <a:graphicData uri="http://schemas.openxmlformats.org/drawingml/2006/table">
            <a:tbl>
              <a:tblPr/>
              <a:tblGrid>
                <a:gridCol w="4304880"/>
                <a:gridCol w="4305240"/>
              </a:tblGrid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Melay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Ingge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mb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gany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t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bal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es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4251240" y="308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90720"/>
            <a:ext cx="8077320" cy="571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341400">
            <a:off x="5562360" y="1192320"/>
            <a:ext cx="2765160" cy="342900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21337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Hidangan istimewa kam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Nasi Ayam Hain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(hanya $2.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Cj04127240000%5b1%5d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150516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081160" y="2127240"/>
            <a:ext cx="16876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05520" y="4419720"/>
            <a:ext cx="1066680" cy="799920"/>
          </a:xfrm>
          <a:custGeom>
            <a:avLst/>
            <a:gdLst>
              <a:gd name="textAreaLeft" fmla="*/ 0 w 1066680"/>
              <a:gd name="textAreaRight" fmla="*/ 1067040 w 1066680"/>
              <a:gd name="textAreaTop" fmla="*/ 103680 h 799920"/>
              <a:gd name="textAreaBottom" fmla="*/ 696240 h 799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4572000"/>
            <a:ext cx="121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$19.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760" y="12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3554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 u="sng">
                <a:solidFill>
                  <a:srgbClr val="000000"/>
                </a:solidFill>
                <a:uFillTx/>
                <a:latin typeface="AvantGarde"/>
                <a:ea typeface="AvantGarde"/>
              </a:rPr>
              <a:t>Ayam Goreng X-klus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760" y="1985040"/>
            <a:ext cx="4021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  <a:ea typeface="AvantGarde"/>
              </a:rPr>
              <a:t>(Restoran pilihan semua keluarg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  <a:ea typeface="AvantGard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HIDANGAN KELU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17 ketul ayam gor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2 kotak kentang gore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2 cawan jagung re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600" spc="-1" strike="noStrike">
                <a:solidFill>
                  <a:srgbClr val="000000"/>
                </a:solidFill>
                <a:latin typeface="AvantGarde"/>
              </a:rPr>
              <a:t>4 aiskrim ‘VanniChoc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6080">
              <a:buClr>
                <a:srgbClr val="000000"/>
              </a:buClr>
              <a:buFont typeface="Symbol" charset="2"/>
              <a:buChar char="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gelas air berkarbonat Coke/Sprite/7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760" y="505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52480" y="228600"/>
            <a:ext cx="4886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ngenali Menu Makan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191120"/>
            <a:ext cx="4343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SimSun"/>
              </a:rPr>
              <a:t>Khidmat penghantaran PERCUMA ke rumah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SimSun"/>
              </a:rPr>
              <a:t>Makanan anda akan dihantar dalam masa 60 mini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SimSun"/>
              </a:rPr>
              <a:t>Pesanan terakhir: 6.00 pet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638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5 Bedok Reservoir Rd S(13423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ms-MY" sz="1800" spc="-1" strike="noStrike">
                <a:solidFill>
                  <a:srgbClr val="000000"/>
                </a:solidFill>
                <a:latin typeface="Arial"/>
              </a:rPr>
              <a:t>Masa penghantaran</a:t>
            </a:r>
            <a:r>
              <a:rPr b="0" lang="ms-M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s-MY" sz="1800" spc="-1" strike="noStrike">
                <a:solidFill>
                  <a:srgbClr val="000000"/>
                </a:solidFill>
                <a:latin typeface="Arial"/>
              </a:rPr>
              <a:t>Isnin-Sabtu 10pagi-9malam, Ahad 11pagi-9malam bagi kawasan Bedok dan Geyla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43000" y="38088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SA KATA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ANG PERLU DIKETAHUI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1523880"/>
          <a:ext cx="8610480" cy="48006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Melay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asa Ingge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an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lih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imew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dm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ghant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an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akh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4251240" y="308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0880" y="9144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ENJODOH BILANGAN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40384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ERAL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54100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5029200"/>
            <a:ext cx="1600200" cy="990720"/>
          </a:xfrm>
          <a:prstGeom prst="rightArrow">
            <a:avLst>
              <a:gd name="adj1" fmla="val 50000"/>
              <a:gd name="adj2" fmla="val 403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48006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4800600"/>
            <a:ext cx="144792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257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juk pada 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05:33:27Z</dcterms:created>
  <dc:creator>nurashikin</dc:creator>
  <dc:description/>
  <dc:language>en-US</dc:language>
  <cp:lastModifiedBy>nurashikin</cp:lastModifiedBy>
  <dcterms:modified xsi:type="dcterms:W3CDTF">2010-05-25T05:27:29Z</dcterms:modified>
  <cp:revision>2</cp:revision>
  <dc:subject/>
  <dc:title>Slide 1</dc:title>
</cp:coreProperties>
</file>